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1E3-EA17-4971-BB74-60F75FE8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926-F942-46EC-B1DE-A5FF3EAE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7AB-8795-4C41-816B-6441CA68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9DB-692F-44B9-83BA-7CF02EBD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C661-C4F6-441F-B798-38B97545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FAE-DA8A-4AE8-9D2E-7F7D543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0138-1C7F-41FE-869A-795765CA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57A0-3E2C-4907-AA0C-8C75051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C70-214A-40C4-9F0B-005228D3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FDA-CABA-47D7-AF37-6F4FD1A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4EB5-8BF7-436C-930B-4C94D75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228-A881-4CF4-98C1-E3050ADE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0589-CA5E-4ED3-AFB3-C2918E2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2428-35D3-468E-9B03-F85DB48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B7F-1FB6-45AC-8C67-8F12680E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4CC1-835D-425C-B1B2-7E365043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BFDC-5C56-471D-8FD3-B7BA0976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EDA-C05A-4F6F-9816-CE0AC21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43A-EEC3-48D2-ADA2-FB03C73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CF5-F4A5-41C3-8FE9-166B516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341-F549-4E14-BF7B-4AA8A2C8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0F4-89EA-41A2-B2A8-52AC270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229-4DC4-49B5-A552-6F217D9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654-04BA-4C74-820C-BD2C604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23B-4F22-4CC4-A89F-8B5690B038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5E3-F68C-4939-A18B-810130558D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0329b_vopros"/>
          <p:cNvPicPr/>
          <p:nvPr/>
        </p:nvPicPr>
        <p:blipFill>
          <a:blip r:embed="rId1"/>
          <a:stretch/>
        </p:blipFill>
        <p:spPr>
          <a:xfrm>
            <a:off x="4032360" y="1628640"/>
            <a:ext cx="5111640" cy="431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00_F_7347800_gOGSusTuy4inQRT7KzU3ircr44CCpW3L"/>
          <p:cNvPicPr/>
          <p:nvPr/>
        </p:nvPicPr>
        <p:blipFill>
          <a:blip r:embed="rId2"/>
          <a:stretch/>
        </p:blipFill>
        <p:spPr>
          <a:xfrm>
            <a:off x="0" y="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2"/>
          <p:cNvSpPr/>
          <p:nvPr/>
        </p:nvSpPr>
        <p:spPr>
          <a:xfrm>
            <a:off x="1619280" y="16286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«Интернет:   да или нет»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0040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готовила учитель математики Гомонова Галина Васильев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У Масленниковская СОШ, Хворостянский район, Самарская обла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сихологическую в своей основе, интернет-зависимость сравнивают с наркоманией — физиологической зависимостью от наркотических веществ, где также присутствует психический компонент.</a:t>
            </a:r>
            <a:r>
              <a:rPr b="0" lang="ru-RU" sz="24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33"/>
          <p:cNvPicPr/>
          <p:nvPr/>
        </p:nvPicPr>
        <p:blipFill>
          <a:blip r:embed="rId1"/>
          <a:stretch/>
        </p:blipFill>
        <p:spPr>
          <a:xfrm>
            <a:off x="250920" y="3573360"/>
            <a:ext cx="4968720" cy="301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de6b57f5681cd8c8f9ab71c58021c11_full"/>
          <p:cNvPicPr/>
          <p:nvPr/>
        </p:nvPicPr>
        <p:blipFill>
          <a:blip r:embed="rId2"/>
          <a:stretch/>
        </p:blipFill>
        <p:spPr>
          <a:xfrm>
            <a:off x="5435640" y="3068640"/>
            <a:ext cx="3708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hotos0-800x600[1]"/>
          <p:cNvPicPr/>
          <p:nvPr/>
        </p:nvPicPr>
        <p:blipFill>
          <a:blip r:embed="rId1"/>
          <a:stretch/>
        </p:blipFill>
        <p:spPr>
          <a:xfrm>
            <a:off x="2700360" y="342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79280" y="18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рнет информационно-развлекательный гигант, но и место разводов и лохотрона. Будьте бдительны, не попадайтесь на уловки мошенников. Не давайте им зарабатывать на нас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интрнет угроза для детей"/>
          <p:cNvPicPr/>
          <p:nvPr/>
        </p:nvPicPr>
        <p:blipFill>
          <a:blip r:embed="rId1"/>
          <a:stretch/>
        </p:blipFill>
        <p:spPr>
          <a:xfrm>
            <a:off x="611280" y="0"/>
            <a:ext cx="79470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24000" y="530532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артные игры наносят непоправимый вред, занимают у ребёнка подавляющую часть времени, отвлекают от занятий и спокойного отдыха, вредят психическому и физическому здоровью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5019"/>
          <p:cNvPicPr/>
          <p:nvPr/>
        </p:nvPicPr>
        <p:blipFill>
          <a:blip r:embed="rId1"/>
          <a:stretch/>
        </p:blipFill>
        <p:spPr>
          <a:xfrm>
            <a:off x="5324400" y="2924280"/>
            <a:ext cx="3819600" cy="3933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акие угрозы наиболее очевидны: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549360"/>
            <a:ext cx="8820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ражение вредоносными программ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ступ к нежелательному содержимо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такты с незнакомыми людьми с помощью чатов или электронной почт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контролируемые покупк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тельная реклам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очная информаци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0" descr="2115230"/>
          <p:cNvPicPr/>
          <p:nvPr/>
        </p:nvPicPr>
        <p:blipFill>
          <a:blip r:embed="rId2"/>
          <a:stretch/>
        </p:blipFill>
        <p:spPr>
          <a:xfrm rot="19442400">
            <a:off x="468000" y="4723920"/>
            <a:ext cx="1224000" cy="1684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41"/>
          <p:cNvPicPr/>
          <p:nvPr/>
        </p:nvPicPr>
        <p:blipFill>
          <a:blip r:embed="rId3"/>
          <a:stretch/>
        </p:blipFill>
        <p:spPr>
          <a:xfrm>
            <a:off x="1908000" y="4486320"/>
            <a:ext cx="2232360" cy="14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windowslivewritervirustriggervirustriggerremovalinstuctio-d7deadware-42"/>
          <p:cNvPicPr/>
          <p:nvPr/>
        </p:nvPicPr>
        <p:blipFill>
          <a:blip r:embed="rId4"/>
          <a:stretch/>
        </p:blipFill>
        <p:spPr>
          <a:xfrm rot="1978800">
            <a:off x="3780000" y="4941720"/>
            <a:ext cx="18716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-182520" y="44280"/>
            <a:ext cx="966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8000" spc="-1" strike="noStrike">
                <a:solidFill>
                  <a:srgbClr val="ffffff"/>
                </a:solidFill>
                <a:latin typeface="Times New Roman"/>
              </a:rPr>
              <a:t>            ЗА или ПРОТИВ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>
            <a:hlinkClick r:id="rId1" action="ppaction://hlinksldjump"/>
          </p:cNvPr>
          <p:cNvSpPr/>
          <p:nvPr/>
        </p:nvSpPr>
        <p:spPr>
          <a:xfrm>
            <a:off x="53964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1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">
            <a:hlinkClick r:id="rId3" action="ppaction://hlinksldjump"/>
          </p:cNvPr>
          <p:cNvSpPr/>
          <p:nvPr/>
        </p:nvSpPr>
        <p:spPr>
          <a:xfrm>
            <a:off x="730872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5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1">
            <a:hlinkClick r:id="rId5" action="ppaction://hlinksldjump"/>
          </p:cNvPr>
          <p:cNvSpPr/>
          <p:nvPr/>
        </p:nvSpPr>
        <p:spPr>
          <a:xfrm>
            <a:off x="5508720" y="422100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4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2">
            <a:hlinkClick r:id="rId7" action="ppaction://hlinksldjump"/>
          </p:cNvPr>
          <p:cNvSpPr/>
          <p:nvPr/>
        </p:nvSpPr>
        <p:spPr>
          <a:xfrm>
            <a:off x="3995640" y="299736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">
            <a:hlinkClick r:id="rId9" action="ppaction://hlinksldjump"/>
          </p:cNvPr>
          <p:cNvSpPr/>
          <p:nvPr/>
        </p:nvSpPr>
        <p:spPr>
          <a:xfrm>
            <a:off x="2268360" y="414972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2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4">
            <a:hlinkClick r:id="rId11" action="ppaction://hlinksldjump"/>
          </p:cNvPr>
          <p:cNvSpPr/>
          <p:nvPr/>
        </p:nvSpPr>
        <p:spPr>
          <a:xfrm>
            <a:off x="3924360" y="5516640"/>
            <a:ext cx="1224000" cy="977760"/>
          </a:xfrm>
          <a:prstGeom prst="rect">
            <a:avLst/>
          </a:prstGeom>
          <a:noFill/>
          <a:ln w="414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6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Стрелка вправо 8">
            <a:hlinkClick r:id="rId13" action="ppaction://hlinksldjump"/>
          </p:cNvPr>
          <p:cNvSpPr/>
          <p:nvPr/>
        </p:nvSpPr>
        <p:spPr>
          <a:xfrm>
            <a:off x="214200" y="557208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39640" y="162864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Дата рождения Интерне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580000" y="4581360"/>
            <a:ext cx="356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9640" y="162864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Самый популярный ресурс сети Интернет, с которого начиналось создание сети Интернет?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0000" y="4581360"/>
            <a:ext cx="356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9640" y="1628640"/>
            <a:ext cx="777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В каком году была изобретена Всемирная паутина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Кто изобрел электронную почту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Назовите аргументы ЗА Интернет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569440" cy="410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«В добрых руках Интернет будет способствовать умножению добра и распространению света истины, а в злых – сеять в душах  грех и пагубу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1628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азовите аргументы ПРОТИВ Интерне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468360" y="126828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Весь мир в одном человеке – это любовь, весь мир в экране – это Интернет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 flipV="1" rot="10798200">
            <a:off x="971280" y="3499920"/>
            <a:ext cx="63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нтернет дает людском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развитию толчок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ичем во всех смысл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x_9b1de80f"/>
          <p:cNvPicPr/>
          <p:nvPr/>
        </p:nvPicPr>
        <p:blipFill>
          <a:blip r:embed="rId1"/>
          <a:stretch/>
        </p:blipFill>
        <p:spPr>
          <a:xfrm>
            <a:off x="0" y="0"/>
            <a:ext cx="428616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i[2]"/>
          <p:cNvPicPr/>
          <p:nvPr/>
        </p:nvPicPr>
        <p:blipFill>
          <a:blip r:embed="rId2"/>
          <a:stretch/>
        </p:blipFill>
        <p:spPr>
          <a:xfrm>
            <a:off x="6696000" y="4492800"/>
            <a:ext cx="2448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163435"/>
          <p:cNvPicPr/>
          <p:nvPr/>
        </p:nvPicPr>
        <p:blipFill>
          <a:blip r:embed="rId1"/>
          <a:stretch/>
        </p:blipFill>
        <p:spPr>
          <a:xfrm>
            <a:off x="179280" y="2349360"/>
            <a:ext cx="3816360" cy="2799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002440" cy="43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нтернет предоставляет широчайшие технические возможности для общения. Кроме того, в Интернете сравнительно легко найти людей со схожими интересами и взглядами на мир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5" descr="3124438_cfd0e62b"/>
          <p:cNvPicPr/>
          <p:nvPr/>
        </p:nvPicPr>
        <p:blipFill>
          <a:blip r:embed="rId2"/>
          <a:stretch/>
        </p:blipFill>
        <p:spPr>
          <a:xfrm>
            <a:off x="4140360" y="3206880"/>
            <a:ext cx="48625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Всемирная сеть дает возможность «держать» руку на пульсе событий, имея доступ к информации из любой точки земного шар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4" descr="1040745"/>
          <p:cNvPicPr/>
          <p:nvPr/>
        </p:nvPicPr>
        <p:blipFill>
          <a:blip r:embed="rId1"/>
          <a:stretch/>
        </p:blipFill>
        <p:spPr>
          <a:xfrm>
            <a:off x="5148360" y="249228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5048_a_photo"/>
          <p:cNvPicPr/>
          <p:nvPr/>
        </p:nvPicPr>
        <p:blipFill>
          <a:blip r:embed="rId2"/>
          <a:stretch/>
        </p:blipFill>
        <p:spPr>
          <a:xfrm>
            <a:off x="684360" y="3314880"/>
            <a:ext cx="3960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299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Интернет открывает огромные возможности перед современными школьниками, становясь палочкой –выручалочкой  в решении многих проблемных вопрос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Picture 4" descr="1258665087_rozov"/>
          <p:cNvPicPr/>
          <p:nvPr/>
        </p:nvPicPr>
        <p:blipFill>
          <a:blip r:embed="rId1"/>
          <a:stretch/>
        </p:blipFill>
        <p:spPr>
          <a:xfrm>
            <a:off x="1763640" y="3068640"/>
            <a:ext cx="60120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От эффективности и быстродействия научных коммуникаций существенным образом зависит вся профессиональная деятельность научного сообщества.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Интернет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необходимое условие выживания науки сегодня, путь к её развитию завтра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i"/>
          <p:cNvPicPr/>
          <p:nvPr/>
        </p:nvPicPr>
        <p:blipFill>
          <a:blip r:embed="rId1"/>
          <a:stretch/>
        </p:blipFill>
        <p:spPr>
          <a:xfrm>
            <a:off x="2124000" y="2857680"/>
            <a:ext cx="5329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15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владение компьютерными и Интернет - технологиями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ткрывает мир новых семейных увлечений, а самое главное – дает возможность заниматься за компьютером увлекательными делами родителям вместе с детьм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4" descr="family_computer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50920" y="2492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 преувеличения, интернет - всемирная сеть, в которой, чтобы мы ни искали, это обязательно найдется. Однако не стоит забывать, что это система, внутри которой могут подстерегаться и опасности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интер"/>
          <p:cNvPicPr/>
          <p:nvPr/>
        </p:nvPicPr>
        <p:blipFill>
          <a:blip r:embed="rId1"/>
          <a:stretch/>
        </p:blipFill>
        <p:spPr>
          <a:xfrm>
            <a:off x="104292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dangerous_internet_for_child-199x300"/>
          <p:cNvPicPr/>
          <p:nvPr/>
        </p:nvPicPr>
        <p:blipFill>
          <a:blip r:embed="rId2"/>
          <a:stretch/>
        </p:blipFill>
        <p:spPr>
          <a:xfrm>
            <a:off x="6084720" y="3789360"/>
            <a:ext cx="2035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6:44:54Z</dcterms:created>
  <dc:creator>Школа</dc:creator>
  <dc:description/>
  <dc:language>en-US</dc:language>
  <cp:lastModifiedBy>Саша+Дима</cp:lastModifiedBy>
  <dcterms:modified xsi:type="dcterms:W3CDTF">2011-12-21T18:33:25Z</dcterms:modified>
  <cp:revision>10</cp:revision>
  <dc:subject/>
  <dc:title>Слайд 1</dc:title>
</cp:coreProperties>
</file>